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FBDF7-A84B-4B92-861B-2AF2F243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945C-45DC-4E9B-B270-7EC6E4D0B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ADA6F-BDE3-4AAB-8522-8FF2BCA8E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9646-9417-43A5-87BD-BB83724DE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0541-CC5C-43D9-83D2-37B487AC9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7E68-DF0C-43A1-8053-9BCC3064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06F-CE3F-40A1-B887-D70DFF886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9C5F6-A548-407C-BF77-1ADC08B9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385D-9FA7-42C5-BE55-7BBBF09C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6275E-228F-45E1-8929-083FED4C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CF24-A777-481C-85DE-50E3676D2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336-925A-404D-9E36-89D10D651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8DD95-C48E-47A5-AB96-6B504A32EE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1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lculating Limits Using the Limit La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4"/>
          <p:cNvSpPr/>
          <p:nvPr/>
        </p:nvSpPr>
        <p:spPr>
          <a:xfrm>
            <a:off x="228600" y="1930320"/>
            <a:ext cx="6343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se tha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a constant and the 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                 exist.  Th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MIT LAWS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5"/>
              <p:cNvSpPr txBox="1"/>
              <p:nvPr/>
            </p:nvSpPr>
            <p:spPr>
              <a:xfrm>
                <a:off x="2523960" y="2362320"/>
                <a:ext cx="1438560" cy="95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7"/>
              <p:cNvSpPr txBox="1"/>
              <p:nvPr/>
            </p:nvSpPr>
            <p:spPr>
              <a:xfrm>
                <a:off x="228600" y="2362320"/>
                <a:ext cx="1417680" cy="92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9"/>
              <p:cNvSpPr txBox="1"/>
              <p:nvPr/>
            </p:nvSpPr>
            <p:spPr>
              <a:xfrm>
                <a:off x="237960" y="3429000"/>
                <a:ext cx="6058080" cy="4871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⋅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a</m:t>
                                </m:r>
                              </m:lim>
                            </m:limLow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⋅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a</m:t>
                                </m:r>
                              </m:lim>
                            </m:limLow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a</m:t>
                                </m:r>
                              </m:lim>
                            </m:limLow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num>
                          <m:den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a</m:t>
                                </m:r>
                              </m:lim>
                            </m:limLow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IMIT LAWS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4"/>
              <p:cNvSpPr txBox="1"/>
              <p:nvPr/>
            </p:nvSpPr>
            <p:spPr>
              <a:xfrm>
                <a:off x="0" y="2244600"/>
                <a:ext cx="6858000" cy="576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limLow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lim</m:t>
                                    </m:r>
                                  </m:e>
                                  <m:lim>
                                    <m:r>
                                      <m:t xml:space="preserve">x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→</m:t>
                                    </m:r>
                                    <m:r>
                                      <m:t xml:space="preserve"> </m:t>
                                    </m:r>
                                    <m:r>
                                      <m:t xml:space="preserve">a</m:t>
                                    </m:r>
                                  </m:lim>
                                </m:limLow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sitiv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teger</m:t>
                        </m:r>
                      </m:e>
                      <m:e>
                        <m:r>
                          <m:t xml:space="preserve">7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</m:e>
                      <m:e>
                        <m:r>
                          <m:t xml:space="preserve">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x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</m:e>
                      <m:e>
                        <m:r>
                          <m:t xml:space="preserve">9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n</m:t>
                            </m:r>
                          </m:sup>
                        </m:sSup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ad>
                          <m:deg>
                            <m:r>
                              <m:t xml:space="preserve">n</m:t>
                            </m:r>
                          </m:deg>
                          <m:e>
                            <m:r>
                              <m:t xml:space="preserve">x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n</m:t>
                            </m:r>
                          </m:deg>
                          <m:e>
                            <m:r>
                              <m:t xml:space="preserve">a</m:t>
                            </m:r>
                          </m:e>
                        </m:rad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sitiv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tege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n,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e  assume  that  </m:t>
                        </m:r>
                        <m:r>
                          <m:t xml:space="preserve">a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ad>
                          <m:deg>
                            <m:r>
                              <m:t xml:space="preserve">n</m:t>
                            </m:r>
                          </m:deg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=</m:t>
                        </m:r>
                        <m:rad>
                          <m:deg>
                            <m:r>
                              <m:t xml:space="preserve">n</m:t>
                            </m:r>
                          </m:deg>
                          <m:e>
                            <m:limLow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lim</m:t>
                                </m:r>
                              </m:e>
                              <m:lim>
                                <m:r>
                                  <m:t xml:space="preserve">x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→</m:t>
                                </m:r>
                                <m:r>
                                  <m:t xml:space="preserve"> </m:t>
                                </m:r>
                                <m:r>
                                  <m:t xml:space="preserve">a</m:t>
                                </m:r>
                              </m:lim>
                            </m:limLow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rad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positive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integer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f</m:t>
                        </m:r>
                        <m:r>
                          <m:t xml:space="preserve"> </m:t>
                        </m:r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ven,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we  assume  that 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a</m:t>
                            </m:r>
                          </m:lim>
                        </m:limLow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&gt;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IRECT SUBSTITUTION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76120" y="2057400"/>
            <a:ext cx="6172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polynomial or a rational function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 the domain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647720" y="3591000"/>
                <a:ext cx="3429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"/>
              <p:cNvSpPr txBox="1"/>
              <p:nvPr/>
            </p:nvSpPr>
            <p:spPr>
              <a:xfrm>
                <a:off x="1447920" y="4952880"/>
                <a:ext cx="337500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2</m:t>
                        </m:r>
                      </m:lim>
                    </m:limLow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 LIMIT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81160" y="1828800"/>
            <a:ext cx="6229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w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e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xcept possibly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 the limit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oth exist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pproache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1"/>
              <p:cNvSpPr txBox="1"/>
              <p:nvPr/>
            </p:nvSpPr>
            <p:spPr>
              <a:xfrm>
                <a:off x="457200" y="4343400"/>
                <a:ext cx="60530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2"/>
              <p:cNvSpPr txBox="1"/>
              <p:nvPr/>
            </p:nvSpPr>
            <p:spPr>
              <a:xfrm>
                <a:off x="457200" y="5486400"/>
                <a:ext cx="5138640" cy="16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near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8" name="Object 1"/>
              <p:cNvSpPr txBox="1"/>
              <p:nvPr/>
            </p:nvSpPr>
            <p:spPr>
              <a:xfrm>
                <a:off x="457200" y="457200"/>
                <a:ext cx="605304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685800" y="1600200"/>
                <a:ext cx="5138640" cy="168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near</m:t>
                        </m:r>
                      </m:e>
                      <m:e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    x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380880" y="7315200"/>
                <a:ext cx="6053400" cy="101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≤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0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61" name="Picture 4" descr=""/>
          <p:cNvPicPr/>
          <p:nvPr/>
        </p:nvPicPr>
        <p:blipFill>
          <a:blip r:embed="rId1"/>
          <a:srcRect l="5193" t="45770" r="32219" b="6709"/>
          <a:stretch/>
        </p:blipFill>
        <p:spPr>
          <a:xfrm>
            <a:off x="0" y="3276720"/>
            <a:ext cx="6888240" cy="306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s that agree at all but one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342720" y="2133360"/>
            <a:ext cx="61722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e the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2"/>
              <p:cNvSpPr txBox="1"/>
              <p:nvPr/>
            </p:nvSpPr>
            <p:spPr>
              <a:xfrm>
                <a:off x="838080" y="2743200"/>
                <a:ext cx="3424320" cy="16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990720" y="5105520"/>
                <a:ext cx="387324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Rectangle 1"/>
          <p:cNvSpPr/>
          <p:nvPr/>
        </p:nvSpPr>
        <p:spPr>
          <a:xfrm>
            <a:off x="152280" y="6324480"/>
            <a:ext cx="64771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do the graphs compare? The tabl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What conclusion can you ma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66840"/>
            <a:ext cx="6858000" cy="207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can try dividing out when the expression is an indeterminate form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1295280" y="4724280"/>
                <a:ext cx="3668760" cy="1663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→</m:t>
                        </m:r>
                        <m:r>
                          <m:t xml:space="preserve">0</m:t>
                        </m:r>
                      </m:lim>
                    </m:limLow>
                    <m:f>
                      <m:num>
                        <m:r>
                          <m:t xml:space="preserve">[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e>
                        </m:rad>
                        <m:r>
                          <m:t xml:space="preserve">]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9" name="Rectangle 1"/>
          <p:cNvSpPr/>
          <p:nvPr/>
        </p:nvSpPr>
        <p:spPr>
          <a:xfrm>
            <a:off x="0" y="2438280"/>
            <a:ext cx="6705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4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ationalizing the numerato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28600" y="1523880"/>
            <a:ext cx="62866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 w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ne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except possibly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468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SQUEEZE 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571760" y="3046320"/>
                <a:ext cx="495288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h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 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1752480" y="4343400"/>
                <a:ext cx="388620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</m:lim>
                    </m:limLow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L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4" name="Text Box 8"/>
          <p:cNvSpPr/>
          <p:nvPr/>
        </p:nvSpPr>
        <p:spPr>
          <a:xfrm>
            <a:off x="466560" y="5715000"/>
            <a:ext cx="588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 This theorem is also sometimes called the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Sandwich Theor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3T23:43:35Z</dcterms:created>
  <dc:creator>Allen Fuller</dc:creator>
  <dc:description/>
  <dc:language>en-US</dc:language>
  <cp:lastModifiedBy>Sheila</cp:lastModifiedBy>
  <dcterms:modified xsi:type="dcterms:W3CDTF">2011-09-02T03:12:41Z</dcterms:modified>
  <cp:revision>41</cp:revision>
  <dc:subject/>
  <dc:title>Section 2.3</dc:title>
</cp:coreProperties>
</file>